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30211"/>
        <c:axId val="81554435"/>
      </c:barChart>
      <c:catAx>
        <c:axId val="52730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4435"/>
        <c:crosses val="autoZero"/>
        <c:auto val="1"/>
        <c:lblAlgn val="ctr"/>
        <c:lblOffset val="100"/>
        <c:noMultiLvlLbl val="0"/>
      </c:catAx>
      <c:valAx>
        <c:axId val="81554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30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A3F-CD13-40EE-BC3C-761BE1F2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389-87CF-4B2A-B949-AE2ABB94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E36-D574-4632-971A-63CCEBC2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DB0-9037-4E2D-B141-19E8D538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70B-9A4E-4E02-81AA-71BEC3BC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52F-E3E3-431C-B5AD-B4EE934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B74-CE97-47D9-8091-1C06B8A3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698-EF4C-4598-A36A-C3FF7ED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190-54D2-43B8-B370-6ED7FE8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B75-89BA-450C-8543-4CCC3E6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5F5-E01C-42EF-A55F-FB4025F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839-E528-4A53-AFF5-2AECCBA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120A-2A22-4F0F-AE52-A2BC2DF68C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