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91903"/>
        <c:axId val="23753400"/>
      </c:barChart>
      <c:catAx>
        <c:axId val="11991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3400"/>
        <c:crosses val="autoZero"/>
        <c:auto val="1"/>
        <c:lblAlgn val="ctr"/>
        <c:lblOffset val="100"/>
        <c:noMultiLvlLbl val="0"/>
      </c:catAx>
      <c:valAx>
        <c:axId val="23753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1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78F-EA1B-4D1A-A27D-AF4A0ECC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8D8-60DB-412A-B4D0-1B2391B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223-E782-442E-B86A-3DA6DD53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5E3-402D-416B-ADAE-58F3627E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831-D3F7-4864-AB58-1729854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5EC-1ECC-4CB8-9943-1CFDEE8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2B1-A221-4B00-A4B2-B221233E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F640-6144-4956-BD45-F1A89C12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E11-862C-4938-97ED-FF31A584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F32-7428-4875-8D34-BF87351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265-BCBE-4EE6-82DF-B38BAA9C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E02-F8BD-4061-9234-A2166DE7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EFE26-E7B4-4E19-82C1-906BEF582B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