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41587"/>
        <c:axId val="30734911"/>
      </c:barChart>
      <c:catAx>
        <c:axId val="71441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34911"/>
        <c:crosses val="autoZero"/>
        <c:auto val="1"/>
        <c:lblAlgn val="ctr"/>
        <c:lblOffset val="100"/>
        <c:noMultiLvlLbl val="0"/>
      </c:catAx>
      <c:valAx>
        <c:axId val="30734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41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D73-88DF-4369-BBB2-B3DED5F2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EAC-B3D5-4CBD-879A-CE452149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E37-E9C6-451B-BF86-11FCBBA8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817-CF0D-4D73-A420-87E99A0B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521-416B-4C18-BBF7-7E513D8E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56D-2310-4929-84F5-1E15813C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B90-1B2F-43D9-B159-4AE3C85C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859-D249-4CDF-88EA-50011C75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552-3519-4FCD-8D95-EBF64F4E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B8D-FBEE-4C85-8B4A-A43F07E1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3CA-4068-4BE9-AB75-100DEAE7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4A2-7346-4ABD-8C67-10FF090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BDC99-68EB-4174-A522-B91CB20B1B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