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55253"/>
        <c:axId val="65967510"/>
      </c:barChart>
      <c:catAx>
        <c:axId val="71055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7510"/>
        <c:crosses val="autoZero"/>
        <c:auto val="1"/>
        <c:lblAlgn val="ctr"/>
        <c:lblOffset val="100"/>
        <c:noMultiLvlLbl val="0"/>
      </c:catAx>
      <c:valAx>
        <c:axId val="65967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5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330-72E7-4970-B07B-9D3039D4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489-92D8-4FCB-9760-EB52EF8A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802-73DD-4F26-ABB9-88E593B0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177-24CB-4749-8B9A-FDF571F9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255-3E89-4321-85AF-F277272D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ADD-44A5-4E07-9815-840A951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960-ECBE-4248-A9D0-1723D088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456-9D9D-4FB4-9E39-0539CCE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8F0-B8E8-4121-AAA8-72A52E05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C80-1A0F-4220-9E32-9F1E8CA1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A5D-894B-412C-B8E4-1CDAFD4B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AC3-B70C-4865-980C-2A201D7F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6FD2B-190A-43BD-A36B-7780077A1F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