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509875"/>
        <c:axId val="45941104"/>
      </c:barChart>
      <c:catAx>
        <c:axId val="305098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41104"/>
        <c:crosses val="autoZero"/>
        <c:auto val="1"/>
        <c:lblAlgn val="ctr"/>
        <c:lblOffset val="100"/>
        <c:noMultiLvlLbl val="0"/>
      </c:catAx>
      <c:valAx>
        <c:axId val="459411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098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EAD3-B8F6-4278-80F5-A4A6681E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0F5D-4AAF-4E14-98E1-31033EBB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58AE-B42E-4099-A193-CCB8F6B8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97A2-2F48-410F-9FDE-67949ECA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FF41-6267-4F8F-A53B-90BA3061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5076-69BE-40E8-8900-EDA419CA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3653-B4A2-4F9B-843E-FA9C0BEF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E0BC-0A8C-4629-8439-7469AC39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1B77-7F43-4BDD-BF12-582BB41B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A7AB-9223-4B30-9E9C-1AD377E5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E48A-8201-4A14-9DD5-C0E2FE3F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3DA3-DC6C-4851-A259-DE585499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1F13F-2475-4700-9AC9-994B7AB15A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