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597181"/>
        <c:axId val="66772314"/>
      </c:barChart>
      <c:catAx>
        <c:axId val="785971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72314"/>
        <c:crosses val="autoZero"/>
        <c:auto val="1"/>
        <c:lblAlgn val="ctr"/>
        <c:lblOffset val="100"/>
        <c:noMultiLvlLbl val="0"/>
      </c:catAx>
      <c:valAx>
        <c:axId val="667723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971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7FFE-9922-4D02-97D4-14F5E42B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9462-A6EE-4646-8144-21121076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A3C4-C777-4980-93E2-7A494D0B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608-8119-4533-A61D-E9062334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52EE-C061-4A58-9ED2-515097B2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0FA2-D36D-41EE-869C-7DC48DFF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FC41-596C-4997-8989-5C51970B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F7F-16BE-4CB5-B0D1-C3813949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DD3-6B4B-4D49-930B-0F08C8A8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3FB5-3A61-4AD9-B980-2C3C548B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7193-8760-4992-A409-B37F6F65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122C-427B-4A81-A281-47ABEE97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35FD1-6758-4B2E-A4E4-824825D68E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