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47877"/>
        <c:axId val="48428341"/>
      </c:barChart>
      <c:catAx>
        <c:axId val="69647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28341"/>
        <c:crosses val="autoZero"/>
        <c:auto val="1"/>
        <c:lblAlgn val="ctr"/>
        <c:lblOffset val="100"/>
        <c:noMultiLvlLbl val="0"/>
      </c:catAx>
      <c:valAx>
        <c:axId val="48428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47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3CA-014E-4288-B480-F4526B1C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BDA-D02D-4B27-BFD7-DE79708A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9F9-A6BB-4959-9420-5F4905C8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8A1-CD0F-4477-9459-89C2B6E1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BEC-1F6E-4F13-9B3E-A02335D2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7C7-5CBB-4693-8264-28B90E40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E65-6F67-4A1C-B479-4D4A31D4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3FE-EE9E-4C53-A843-EFFE3E0F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2DB-A4EE-4AB1-93BA-724DF5E4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1C2-F643-4A1D-8ED8-0BE72D2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070-8263-4E02-9A45-6733F69C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05A-B68A-405C-B575-2220B332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DFDB5-F6DB-40E8-B945-95916E37E3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