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70722"/>
        <c:axId val="26059182"/>
      </c:barChart>
      <c:catAx>
        <c:axId val="94470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59182"/>
        <c:crosses val="autoZero"/>
        <c:auto val="1"/>
        <c:lblAlgn val="ctr"/>
        <c:lblOffset val="100"/>
        <c:noMultiLvlLbl val="0"/>
      </c:catAx>
      <c:valAx>
        <c:axId val="26059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70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FB0-A69B-48B3-B5FE-91DA0ED6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384-89D0-4B82-9CE7-5CC49428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EDF-1966-4FC0-A333-8D029943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016-AC7C-4F3F-BB73-5F55EDD7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344-E78E-4BD7-929F-D9FA2E7B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179-2D3A-4AA0-A679-C79FE0B1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BD6-54C3-4314-AB92-736E68FD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236-9D60-46D9-A2AF-52D5B85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878-C15F-48C3-B6CE-34DA947C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020-1609-422D-9E14-0E98CC05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CA3-FA24-48D7-AC97-A39DAE4A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214-B2F8-4ABF-A326-5426D836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72640-1D92-4B53-912B-585848EA80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