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67827"/>
        <c:axId val="55257733"/>
      </c:barChart>
      <c:catAx>
        <c:axId val="60867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57733"/>
        <c:crosses val="autoZero"/>
        <c:auto val="1"/>
        <c:lblAlgn val="ctr"/>
        <c:lblOffset val="100"/>
        <c:noMultiLvlLbl val="0"/>
      </c:catAx>
      <c:valAx>
        <c:axId val="55257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67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81F-E3E9-4FFD-BEF0-95DD83B2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23C-E53D-4ABF-9841-AD79D8F5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0D5-F95C-4B71-B0C2-F58EF81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126-9E49-43C1-B35E-6CD3A0BF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10B-73E4-4338-9F08-7147315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2A3-8B51-4CCC-A9BA-59CEDBD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341-AB8A-4BBA-9E19-599140D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E13-A0B4-4249-AEBE-540639A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BDF-AFBA-4686-8999-26DD386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A5B-94C2-470C-9FE0-613A5E2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A90-9561-4F51-999C-E36AE97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C67-FDB2-4764-8687-2E7704B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9F97D-127E-4C86-B9AE-F3116206E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