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74163"/>
        <c:axId val="79518048"/>
      </c:barChart>
      <c:catAx>
        <c:axId val="47474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18048"/>
        <c:crosses val="autoZero"/>
        <c:auto val="1"/>
        <c:lblAlgn val="ctr"/>
        <c:lblOffset val="100"/>
        <c:noMultiLvlLbl val="0"/>
      </c:catAx>
      <c:valAx>
        <c:axId val="79518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74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56A-B714-454A-A939-7691EEDD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F83-B761-41F9-BB78-18311A23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9DA-86C6-4821-97E3-36FD75D5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585-3C3A-4966-AAE6-3EACF531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FBA-5DA5-4BBE-982A-4DA7989E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4C5-DC43-44F2-BD84-08B95DE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1A5-BCFE-4E1C-965C-8B02357F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77F-4573-4CED-89B0-83DF6708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641-3642-4FED-B70E-AD951EE7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116-C756-4F21-9D80-9C8E9AC4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F28-71FA-42B2-840B-CB552A0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85F-2EBE-47DA-BEEF-C07CBE9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A30BC-59C3-4887-926E-3510B76705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