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91634"/>
        <c:axId val="6067165"/>
      </c:barChart>
      <c:catAx>
        <c:axId val="43791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165"/>
        <c:crosses val="autoZero"/>
        <c:auto val="1"/>
        <c:lblAlgn val="ctr"/>
        <c:lblOffset val="100"/>
        <c:noMultiLvlLbl val="0"/>
      </c:catAx>
      <c:valAx>
        <c:axId val="6067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1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771-2511-4B60-A480-12CD684E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58E-D585-4247-A367-0B45A28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D11-C4FE-49B9-A0E3-69A58C2B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DBB-C2F6-48F1-9E91-D0FDC8CE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077-2C8F-41C5-B382-6538B5E0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E00-3D57-48B5-A90D-3BF6CD17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D36-D0D9-487A-8621-BC8F883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7E4-BF74-42E9-948B-276B118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D5D-04E2-4167-B313-B9E8B8E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5DF-D212-4449-8C70-9B66A8D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256-4508-4368-9727-5CC3034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B02-2D60-47FB-81BB-0FAFCA2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A0905-B5D3-4CDF-AFAC-6AE7D033D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