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96795"/>
        <c:axId val="18547540"/>
      </c:barChart>
      <c:catAx>
        <c:axId val="16196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47540"/>
        <c:crosses val="autoZero"/>
        <c:auto val="1"/>
        <c:lblAlgn val="ctr"/>
        <c:lblOffset val="100"/>
        <c:noMultiLvlLbl val="0"/>
      </c:catAx>
      <c:valAx>
        <c:axId val="18547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96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547-9E5B-4BB7-9CDE-4675F349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4C4-15EE-41B7-AB83-E7FAE36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7D5-69FF-4065-A938-60612895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6F2-8E2C-4541-9005-B3823484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442-D6BA-4AC5-AFF8-BA560C3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024-CF61-467C-BF9A-1DC51BE0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CEA-E619-44CB-AEA4-22C0790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529-8CE3-4AD7-91CD-3B60147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DF4-AB24-4BAB-A3B3-5F456AB8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019-4BA0-47C8-9DA5-463D8287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0A1-D01A-4DC6-9657-7FA856C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4B1-D610-4F41-A098-82360BD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65E16-AC39-4ABA-B75B-60847DADDE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