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564233"/>
        <c:axId val="25969706"/>
      </c:barChart>
      <c:catAx>
        <c:axId val="135642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69706"/>
        <c:crosses val="autoZero"/>
        <c:auto val="1"/>
        <c:lblAlgn val="ctr"/>
        <c:lblOffset val="100"/>
        <c:noMultiLvlLbl val="0"/>
      </c:catAx>
      <c:valAx>
        <c:axId val="259697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5642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1FCB-C8BE-42E2-A428-0D70446EB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6E96-6C75-46E8-8EB0-A5FEF3A0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4757-C184-4861-8AAD-E38F5A0D3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B0A7-4FEB-41DF-A4A7-4C819CB2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6AAA-12DD-4CAA-88F6-DEEE4BB4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5F42-1C50-40CD-A4AF-5047BAB1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2668-E1B6-4E20-9D57-5807AD88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EAFF-7336-4DD0-8048-C156B234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9F43-14F5-45C2-A694-27F4EAD4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71BE-E65E-4D13-9E46-D94CC917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214F-AC9F-4AA9-B11D-AFBF44B0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0F95-1C99-4AAB-8596-06BF8C8D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2023E7-5988-4EDA-B2EC-B8916AE00D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