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81328"/>
        <c:axId val="23933518"/>
      </c:barChart>
      <c:catAx>
        <c:axId val="30881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33518"/>
        <c:crosses val="autoZero"/>
        <c:auto val="1"/>
        <c:lblAlgn val="ctr"/>
        <c:lblOffset val="100"/>
        <c:noMultiLvlLbl val="0"/>
      </c:catAx>
      <c:valAx>
        <c:axId val="23933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81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239-8F46-4C44-AF0D-1816E1B7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D49-08C4-4DC9-BA92-B68B1E9F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F46-3629-43CC-823B-0187085B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24F-EB75-4B75-A839-1BF80A2D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195-A7BC-44AA-90C9-F04D2A96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AA1-0FC9-4BA3-801F-595B8396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D73-C543-4B5B-A868-F54902B7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8FB-E35D-4CBE-8B1A-2C8585A4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030-5274-4642-B4C2-7491F92A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BA1-BBE3-4B7A-BEED-F10F0483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1F0-3DBA-4063-B246-17FD50F6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21E-9B5A-4555-A102-0DAC1580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A1720-0017-4E05-8D30-51119D9582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