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10803"/>
        <c:axId val="49610834"/>
      </c:barChart>
      <c:catAx>
        <c:axId val="58510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10834"/>
        <c:crosses val="autoZero"/>
        <c:auto val="1"/>
        <c:lblAlgn val="ctr"/>
        <c:lblOffset val="100"/>
        <c:noMultiLvlLbl val="0"/>
      </c:catAx>
      <c:valAx>
        <c:axId val="49610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10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5267-4B78-4203-A22E-CB00B10D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7FB-220E-4FAA-8C22-EF5DF81B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85E5-F72E-40F0-B427-7E0030F2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0568-9B2F-486A-98B9-175B3F09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E1CE-ACFA-478D-A130-19AD7CF5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9D09-0D80-4C88-8E47-1F1FB08A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D6F8-1F84-403C-9590-EA26EB67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666-DAB2-4F64-811E-36DF83FE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309-3705-4AEE-BDA1-4D92058C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8BA-8B18-4DBC-ABE1-B9A54977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E20F-CFE5-48A8-97A7-EBC31C8E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62D-8D42-41A1-A71C-86211C3F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745C0-7356-4775-8776-C444E54B99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