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263508"/>
        <c:axId val="71725070"/>
      </c:barChart>
      <c:catAx>
        <c:axId val="612635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725070"/>
        <c:crosses val="autoZero"/>
        <c:auto val="1"/>
        <c:lblAlgn val="ctr"/>
        <c:lblOffset val="100"/>
        <c:noMultiLvlLbl val="0"/>
      </c:catAx>
      <c:valAx>
        <c:axId val="717250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635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3AAA-B440-4336-B4AA-EECABA955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93B2-A159-4310-8701-1383D426A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FA30-8274-4B65-B7B9-38157B7C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5E43-A6F3-4A30-A253-B5F8D124D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40C3-CA05-43D3-B0D2-465C542E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DC7F-CE4A-473D-BB91-9CE369D2F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6400-42C1-447B-9651-74925D68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F6DF-3A50-4DB6-8E7C-6969AA8C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B32C-C66D-4E50-8524-955E145CA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19DE-778D-48AA-A337-59FEA71BB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4776-2970-4E18-984A-87FC01E4A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199B-30A6-4230-A65F-645DCFF2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E310D-B906-462C-A178-A8D0BEBCBF0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