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08066"/>
        <c:axId val="6310373"/>
      </c:barChart>
      <c:catAx>
        <c:axId val="67908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0373"/>
        <c:crosses val="autoZero"/>
        <c:auto val="1"/>
        <c:lblAlgn val="ctr"/>
        <c:lblOffset val="100"/>
        <c:noMultiLvlLbl val="0"/>
      </c:catAx>
      <c:valAx>
        <c:axId val="6310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08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03D-2B78-48DD-A57C-5DBE7513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479-079F-4C1B-B3F4-30CBB8C6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B63-E5C8-459C-A3F2-6DA8847C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8A8-49B4-4E34-8015-E8C78613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A51-BFB5-457C-818B-6795CEBF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7DC-A281-4888-A16F-DA9AE8A7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BCF-E58D-40AF-94A4-8AFCC537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20E-6CFF-4296-BA67-E7B64C54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38E-05DE-409D-93C4-0814740F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147-C27C-44A5-A224-4F702B50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3EC-89ED-4448-A19E-14B93366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0F9-EB0B-4D5D-ADC0-B2413EA2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7F977-4537-4F2C-8422-C7BA3360A0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