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68040"/>
        <c:axId val="77649719"/>
      </c:barChart>
      <c:catAx>
        <c:axId val="806680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49719"/>
        <c:crosses val="autoZero"/>
        <c:auto val="1"/>
        <c:lblAlgn val="ctr"/>
        <c:lblOffset val="100"/>
        <c:noMultiLvlLbl val="0"/>
      </c:catAx>
      <c:valAx>
        <c:axId val="77649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680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0B1-ED52-49B2-ABB8-9C9DF408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D17-A033-4190-B2A3-4A7A184A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7D59-33A1-492A-A046-5DDBDCDA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F8FE-54F8-4CF9-AB55-007FAF89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DF5-D523-415D-B8DC-CC9924A5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BEB-58AF-4624-9B3E-1B8C4E03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7DA-725C-4938-A847-D1B02E55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BE00-1C54-4F09-9CA5-71ABF2B8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889-CC59-4D37-8C47-2BDBACB4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71B2-D174-408F-97A1-61919A23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4A27-F054-4D2D-8EA4-5A8D12D0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D182-8337-47AE-8C1A-1CCEA237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39E94-F451-4763-B530-A91317DAA3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