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47753"/>
        <c:axId val="91741362"/>
      </c:barChart>
      <c:catAx>
        <c:axId val="23547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41362"/>
        <c:crosses val="autoZero"/>
        <c:auto val="1"/>
        <c:lblAlgn val="ctr"/>
        <c:lblOffset val="100"/>
        <c:noMultiLvlLbl val="0"/>
      </c:catAx>
      <c:valAx>
        <c:axId val="91741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47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952-D05B-400E-958F-2CF08199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816-32E0-4499-A2F7-9F05F23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79A-E8F6-4F4C-B332-D5ABC10C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CDF-ADF6-4F23-9EF7-6AE99560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D22-1D52-4278-9C86-4B6F1C3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696-8699-490C-B844-F912C732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222-8D0F-4B0D-896E-32530D53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457-BC71-4C0A-90E5-06DEAE19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F04-7D3A-4622-B8F8-45D2A18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D5A-5222-4599-83A1-D0997AC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BB9-D6B7-4E62-91A4-457813A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E94-A283-4EF7-BDC0-E12CB172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18A66-4FE7-484D-BEA4-3F6FD7965B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