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30975"/>
        <c:axId val="56544259"/>
      </c:barChart>
      <c:catAx>
        <c:axId val="82630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44259"/>
        <c:crosses val="autoZero"/>
        <c:auto val="1"/>
        <c:lblAlgn val="ctr"/>
        <c:lblOffset val="100"/>
        <c:noMultiLvlLbl val="0"/>
      </c:catAx>
      <c:valAx>
        <c:axId val="5654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30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664-C3CE-4B9D-A865-E75DD08E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999-C3D2-427E-B4E8-C9AC2242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EC0-56AC-4917-BD48-AE741B94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495-3E83-456E-9A16-FA0D1402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E77-CCDF-4EF9-95DE-D6D7293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22B-31DB-4139-AE11-13B6580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5A2-5865-47A3-9ABE-5326306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AE4-72E7-4D62-BBF1-1C0146C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1E2-5F4A-414E-9262-3094EC4A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FDA-291A-4E2D-AB88-0583D12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159-1140-4954-9DE1-1544876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85D-4F3B-4862-A27C-46439EB8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F936D-E702-4539-A4BD-EB70FB0B4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