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087895"/>
        <c:axId val="98550120"/>
      </c:barChart>
      <c:catAx>
        <c:axId val="350878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50120"/>
        <c:crosses val="autoZero"/>
        <c:auto val="1"/>
        <c:lblAlgn val="ctr"/>
        <c:lblOffset val="100"/>
        <c:noMultiLvlLbl val="0"/>
      </c:catAx>
      <c:valAx>
        <c:axId val="985501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0878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A552-AA91-41CD-9F41-5E349F3EA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ED86-2C88-4344-8B98-3AB6DAF6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51C3-BB39-4B5C-8A2A-4A6D59AFF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D1C3-DA92-4AD0-8358-DB9BAB1D0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1F21-389F-4B04-8734-E160CD7E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5A1C-E9EC-4DFE-BFE5-57BF23D1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5A68-0DD5-4E30-A6E2-09F50441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0F36-5D4A-4C5C-8B43-D60D6473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4E6E-30FE-47F9-9C67-B822A3D9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0263-35A5-4805-A8F3-C05BDECD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2801-FD1A-428F-AD35-FC823CFD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0DFF-4227-497B-92D0-42F29978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FCEB50-D551-4FEF-9497-CFE46E2000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