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46112"/>
        <c:axId val="2527116"/>
      </c:barChart>
      <c:catAx>
        <c:axId val="34346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7116"/>
        <c:crosses val="autoZero"/>
        <c:auto val="1"/>
        <c:lblAlgn val="ctr"/>
        <c:lblOffset val="100"/>
        <c:noMultiLvlLbl val="0"/>
      </c:catAx>
      <c:valAx>
        <c:axId val="2527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46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FE6-7F5C-419E-AB40-2243C84E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258-38B3-4F68-81B4-A98A7381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3AB-1E65-41E8-8E8C-C452F4EF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D14-759E-43B8-A1E3-47FB94C5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86A-1E55-4349-B9D3-E6923EDE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EB93-ADC4-485B-BF7E-18B8BC46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5FF-1B8F-4B32-AA27-24633E55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33F-6727-46CD-AC2B-F6B9B909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74F-1CB1-4CD9-814F-E1075F69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348-D3EE-4665-A7C3-1A2BA2D6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3E3F-8B96-4FF7-A132-C233BD68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8A4-5A96-403E-A65B-984C852E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11E17-8463-4CE0-A5E2-8BDB09F65B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