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16231"/>
        <c:axId val="32793578"/>
      </c:barChart>
      <c:catAx>
        <c:axId val="94016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93578"/>
        <c:crosses val="autoZero"/>
        <c:auto val="1"/>
        <c:lblAlgn val="ctr"/>
        <c:lblOffset val="100"/>
        <c:noMultiLvlLbl val="0"/>
      </c:catAx>
      <c:valAx>
        <c:axId val="32793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16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99B-3367-417D-BAD7-A71F4E86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8B4-5AB4-48C5-8E7D-703510CC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097-4685-4F62-9893-4AA52CD7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939-0301-48E0-B3DE-347C672B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D5E-E0BC-4DB8-96DF-E036DDBD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8FE-9B7B-445A-8CCF-A567C922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4F9-2D53-45B8-800C-B2C27C89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380-7299-4A77-9833-A4535DD8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A3B-1238-4A86-A1A0-65E39AB9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5BB-5D3C-4B5E-A947-A38EDBE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7F7-B0F5-427D-A240-1D0DD3DD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0BF-76DC-4AFE-B591-B74EBB92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F6BB7-1689-4273-A7AB-070D6E2D73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