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56950"/>
        <c:axId val="34422989"/>
      </c:barChart>
      <c:catAx>
        <c:axId val="36356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22989"/>
        <c:crosses val="autoZero"/>
        <c:auto val="1"/>
        <c:lblAlgn val="ctr"/>
        <c:lblOffset val="100"/>
        <c:noMultiLvlLbl val="0"/>
      </c:catAx>
      <c:valAx>
        <c:axId val="34422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56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2E7-4E08-4E28-84B6-090016B9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91F-314C-4CF1-99BA-3DFF6AA9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2760-3B9E-4BFC-AFD8-722A2249F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60B-E895-49E9-BFCD-C3C225AE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F171-223C-4635-B054-8B2B836B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574-C914-4345-98C0-5FD1E0C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F7C-64D6-431D-91AD-AD55041B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A5C-F33B-4699-8CE5-DC2B51AD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D14-4581-4E0B-9014-66E76FDD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123-EC2C-461E-8CC1-CF94F71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463-D006-4782-A930-97CC3D64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454-CDE7-4951-B7B6-1B0F3570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0183D-CA3A-4E84-82E8-D2405A9E4E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