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47947"/>
        <c:axId val="51940974"/>
      </c:barChart>
      <c:catAx>
        <c:axId val="98547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40974"/>
        <c:crosses val="autoZero"/>
        <c:auto val="1"/>
        <c:lblAlgn val="ctr"/>
        <c:lblOffset val="100"/>
        <c:noMultiLvlLbl val="0"/>
      </c:catAx>
      <c:valAx>
        <c:axId val="51940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7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8B9-1E9F-4F64-A6E9-79D7A88B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612-1095-474F-A928-DA11B492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0B6-A0D4-4DFD-AB6E-08E43524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57D-DC47-4741-BBA4-69C30BAB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C7F-3ADA-4A00-9EBB-57A0D9F7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B32-C0FC-4CBD-983E-C0154AC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108-7EB4-4A0C-9FE4-43BF2FD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511-3B06-49DD-B6FF-1EA935A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B94-7422-4861-8626-F4020665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244-496B-491F-9F51-8ADF5D9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2E5-9DCD-4B79-822E-BEB98DA1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EFB-7AB8-447A-ACF2-7F040E2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4E8D-4ADB-476A-BE99-2CFC2BC31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