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617"/>
        <c:axId val="78740861"/>
      </c:barChart>
      <c:catAx>
        <c:axId val="428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40861"/>
        <c:crosses val="autoZero"/>
        <c:auto val="1"/>
        <c:lblAlgn val="ctr"/>
        <c:lblOffset val="100"/>
        <c:noMultiLvlLbl val="0"/>
      </c:catAx>
      <c:valAx>
        <c:axId val="78740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BED-52A2-4BA2-B507-BA812400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7A4-79FC-4B85-B250-4BF3DD49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BE4-9119-44A4-B4EB-F0C33D25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C9F-B7E1-40F9-A95E-68D9969F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7EC-DC2B-4716-BB76-F5EAD3CE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729-3EB8-4D97-8B74-2C8167BC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3AE-399B-448F-9575-6EFFA012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A16-7CA5-4541-BE16-36AB7AAE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1DD-849A-4982-BE52-1FCDBD8B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3E3-1620-4D71-A8D6-16FE5D98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FEE-59ED-4D57-96A1-A7206C7D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3D5-761E-4150-8752-50F89B9D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78022-07F0-4124-ADFE-050777C148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